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138-6011-446F-8E2E-0E6EB6B4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5DC-5840-48A1-A5F7-2DA89425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FF3-B025-440B-A1FB-628F3107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A90-30A5-4983-9B6A-C5BCC9E8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213-90B0-4554-A252-CF93F25C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AC4-AA28-4724-8EBB-C419EB31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405-542A-4B3C-8CA9-3EFBE3DD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3E0-DE8E-47FA-BD0E-B11D8E4A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108-1BB9-4ED6-92E1-E6119197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9E7-E42E-4953-95F6-E0171424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D0A-B388-4319-90DC-EBE2E44D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15D-5EF4-4FB3-B083-0405DC83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8171-51C7-40DD-9318-D18E0521D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P_Modell_Eszk&#246;z&#246;k.ggb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1400" y="333360"/>
            <a:ext cx="37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A P-modell alkalmazási lehetőség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Kép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905440" cy="4421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81040" y="566100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_Modell_Eszközök.g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Kép 5" descr=""/>
          <p:cNvPicPr/>
          <p:nvPr/>
        </p:nvPicPr>
        <p:blipFill>
          <a:blip r:embed="rId1"/>
          <a:stretch/>
        </p:blipFill>
        <p:spPr>
          <a:xfrm>
            <a:off x="5076720" y="1197000"/>
            <a:ext cx="2676600" cy="1895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29520" y="189000"/>
            <a:ext cx="63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llapítsuk meg  - mérés nélkül  -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  ABC háromszög oldalainak a nagyság szerinti sorrendjé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219640" y="3500280"/>
          <a:ext cx="2448000" cy="24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9640" y="3500280"/>
                    <a:ext cx="24480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84360" y="1197000"/>
          <a:ext cx="3876480" cy="372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1197000"/>
                    <a:ext cx="38764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59240" y="33336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ét tengelyes tükrözés szorz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" y="2063520"/>
            <a:ext cx="113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07628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197000"/>
          <a:ext cx="2376360" cy="22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237636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771640" y="1268280"/>
          <a:ext cx="3025800" cy="23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268280"/>
                    <a:ext cx="30258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940360" y="1341360"/>
          <a:ext cx="2952720" cy="230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1341360"/>
                    <a:ext cx="295272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771640" y="3716280"/>
          <a:ext cx="3097440" cy="279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3716280"/>
                    <a:ext cx="3097440" cy="27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08880" y="639720"/>
            <a:ext cx="49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tudunk a húrnégyszög szemközti szögeirő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59280" y="1484280"/>
          <a:ext cx="324000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4280"/>
                    <a:ext cx="324000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2T15:43:18Z</dcterms:created>
  <dc:creator>Dr. Szilassi Lajos</dc:creator>
  <dc:description/>
  <dc:language>en-US</dc:language>
  <cp:lastModifiedBy>Dr. Szilassi Lajos</cp:lastModifiedBy>
  <dcterms:modified xsi:type="dcterms:W3CDTF">2017-03-23T06:09:37Z</dcterms:modified>
  <cp:revision>7</cp:revision>
  <dc:subject/>
  <dc:title>1. dia</dc:title>
</cp:coreProperties>
</file>