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5.wmf" ContentType="image/x-wmf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72FD-BFDB-4C92-8E0E-7B3176D2E44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DAF-0FC0-4842-9FE1-347F43BEFAA8}" type="slidenum">
              <a:rPr b="0" lang="hu-HU" sz="12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060-51BE-44CC-9093-AD8B33D3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80-63FA-4F67-A0D5-82E3254E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A64-3CE2-4967-BB07-24D15081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85C-AA41-4424-A31A-0BB582AD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4F0-6A52-4598-9AE3-E5C7372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212-8BB3-4581-B473-3C2C71FE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079-6DF4-4142-88D1-F47D0ED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AC8-5F90-43EC-9950-A2E30C82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48D-CE6A-412A-B70E-43221A0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C6A-D014-4A19-AE0F-3799887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1E5-7B90-4CAF-BC6D-8310A67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E30-64DC-4971-A94C-218380B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70CC-8B89-4E49-B129-A3FF9577078C}" type="slidenum">
              <a:rPr b="0" lang="hu-H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k&#233;pek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uklide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oklosz.ppt" TargetMode="External"/><Relationship Id="rId2" Type="http://schemas.openxmlformats.org/officeDocument/2006/relationships/hyperlink" Target="file:///Clavio.ppt" TargetMode="External"/><Relationship Id="rId3" Type="http://schemas.openxmlformats.org/officeDocument/2006/relationships/hyperlink" Target="file:///Wallis.ppt" TargetMode="External"/><Relationship Id="rId4" Type="http://schemas.openxmlformats.org/officeDocument/2006/relationships/hyperlink" Target="file:///Gauss.ppt" TargetMode="External"/><Relationship Id="rId5" Type="http://schemas.openxmlformats.org/officeDocument/2006/relationships/hyperlink" Target="file:///Legendre.ppt" TargetMode="External"/><Relationship Id="rId6" Type="http://schemas.openxmlformats.org/officeDocument/2006/relationships/hyperlink" Target="file:///Bolyai%20Farkas.p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1280" y="260280"/>
            <a:ext cx="8229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A model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Olyan konstrukció, amely a vizsgálat szempontjából pontosan ugyanazokkal a tulajdonságokkal rendelkezik, mint a vizsgálat tárgya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00000" y="2146320"/>
            <a:ext cx="6934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Arial"/>
              </a:rPr>
              <a:t>A hiperbolikus geometria néhány modellje: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- Beltrami modellje a pszeudoszférán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- Cayley - Klein-féle körmodel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- Poincaré félsík-modellj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990000"/>
                </a:solidFill>
                <a:latin typeface="Arial"/>
              </a:rPr>
              <a:t>- Poincaré félgömb-modellj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ff3300"/>
                </a:solidFill>
                <a:latin typeface="Arial"/>
              </a:rPr>
              <a:t>- Poincaré-féle körmodell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38836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  <a:hlinkClick r:id="rId1"/>
              </a:rPr>
              <a:t>↓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68360" y="155736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 sík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Pon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Egyenes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Szakasz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Kör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Tengelyes tükrözé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580000" y="90792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00"/>
                </a:solidFill>
                <a:latin typeface="Times New Roman"/>
              </a:rPr>
              <a:t>A model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46240" y="98100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00"/>
                </a:solidFill>
                <a:latin typeface="Times New Roman"/>
              </a:rPr>
              <a:t>A modellezett fogalom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140360" y="1557360"/>
            <a:ext cx="46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Nyitott körlap (alapkör)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  körlap belső pontjai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z alapkört merőlegesen metsző körív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z” egyenes” egy köríve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Kör (?)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Inverzió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409120" y="1890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Times New Roman"/>
              </a:rPr>
              <a:t>Poincaré körmodellje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4343400" y="320040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00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8"/>
          <p:cNvGraphicFramePr/>
          <p:nvPr/>
        </p:nvGraphicFramePr>
        <p:xfrm>
          <a:off x="4343400" y="320040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200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9" descr=""/>
          <p:cNvPicPr/>
          <p:nvPr/>
        </p:nvPicPr>
        <p:blipFill>
          <a:blip r:embed="rId5"/>
          <a:stretch/>
        </p:blipFill>
        <p:spPr>
          <a:xfrm>
            <a:off x="2771640" y="3573360"/>
            <a:ext cx="30243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23280" y="26028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Feladatok a P-modell alkalmazására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84640" y="785880"/>
            <a:ext cx="57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djunk meg  egy kört, amelynek adott az AB átmérője!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Mekkora szög alatt látszik a kör pontjaiból az AB szakasz?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Mi azon pontok mértani helye a hiperbolikus síkon,</a:t>
            </a:r>
            <a:br>
              <a:rPr sz="1800"/>
            </a:b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 ahonnan az AB szakasz derékszög alatt látszik?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83200" y="2154240"/>
            <a:ext cx="728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dott a K középpontú A kerületi pontú s kör, és  egy P pont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Szerkesszük meg a P-ből s-hez húzott érintők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z euklídeszi síkon, ha nem tudjuk, hogy érvényes-e Thalész tétele;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 hiperbolikus sík P-modelljén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 gömbön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484000" y="3645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Arkhimédész módszere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09" name="Picture 22" descr="250px-Archimedes_(Idealportrait)"/>
          <p:cNvPicPr/>
          <p:nvPr/>
        </p:nvPicPr>
        <p:blipFill>
          <a:blip r:embed="rId1"/>
          <a:stretch/>
        </p:blipFill>
        <p:spPr>
          <a:xfrm>
            <a:off x="108000" y="3933720"/>
            <a:ext cx="2381040" cy="26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24"/>
          <p:cNvGraphicFramePr/>
          <p:nvPr/>
        </p:nvGraphicFramePr>
        <p:xfrm>
          <a:off x="4448160" y="3305160"/>
          <a:ext cx="247680" cy="2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8160" y="3305160"/>
                    <a:ext cx="24768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25"/>
          <p:cNvGraphicFramePr/>
          <p:nvPr/>
        </p:nvGraphicFramePr>
        <p:xfrm>
          <a:off x="6732720" y="476280"/>
          <a:ext cx="2019240" cy="199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2720" y="476280"/>
                    <a:ext cx="20192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28" descr="Érintők gömbi geometriában"/>
          <p:cNvPicPr/>
          <p:nvPr/>
        </p:nvPicPr>
        <p:blipFill>
          <a:blip r:embed="rId6"/>
          <a:stretch/>
        </p:blipFill>
        <p:spPr>
          <a:xfrm>
            <a:off x="6948360" y="4221000"/>
            <a:ext cx="20415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1"/>
          <p:cNvGraphicFramePr/>
          <p:nvPr/>
        </p:nvGraphicFramePr>
        <p:xfrm>
          <a:off x="4859280" y="4076640"/>
          <a:ext cx="208908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076640"/>
                    <a:ext cx="20890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32" descr=""/>
          <p:cNvPicPr/>
          <p:nvPr/>
        </p:nvPicPr>
        <p:blipFill>
          <a:blip r:embed="rId9"/>
          <a:stretch/>
        </p:blipFill>
        <p:spPr>
          <a:xfrm>
            <a:off x="0" y="0"/>
            <a:ext cx="792000" cy="7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35"/>
          <p:cNvGraphicFramePr/>
          <p:nvPr/>
        </p:nvGraphicFramePr>
        <p:xfrm>
          <a:off x="2771640" y="4076640"/>
          <a:ext cx="1944720" cy="1936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4076640"/>
                    <a:ext cx="194472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7" descr=""/>
          <p:cNvPicPr/>
          <p:nvPr/>
        </p:nvPicPr>
        <p:blipFill>
          <a:blip r:embed="rId1"/>
          <a:stretch/>
        </p:blipFill>
        <p:spPr>
          <a:xfrm>
            <a:off x="6516720" y="3716280"/>
            <a:ext cx="2158920" cy="21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25"/>
          <p:cNvGraphicFramePr/>
          <p:nvPr/>
        </p:nvGraphicFramePr>
        <p:xfrm>
          <a:off x="6516720" y="3716280"/>
          <a:ext cx="2249280" cy="22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716280"/>
                    <a:ext cx="22492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32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2160360" cy="9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27"/>
          <p:cNvGraphicFramePr/>
          <p:nvPr/>
        </p:nvGraphicFramePr>
        <p:xfrm>
          <a:off x="611280" y="3716280"/>
          <a:ext cx="2246400" cy="214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716280"/>
                    <a:ext cx="224640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4"/>
          <p:cNvSpPr/>
          <p:nvPr/>
        </p:nvSpPr>
        <p:spPr>
          <a:xfrm>
            <a:off x="1256400" y="260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Times New Roman"/>
              </a:rPr>
              <a:t>A Poincaré modell néhány alkalmazása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00680" y="2924280"/>
            <a:ext cx="245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A háromszög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hu-HU" sz="1600" spc="-1" strike="noStrike">
                <a:solidFill>
                  <a:srgbClr val="990000"/>
                </a:solidFill>
                <a:latin typeface="Times New Roman"/>
              </a:rPr>
              <a:t>nevezetes vonalai és pontjai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6230520" y="2997360"/>
            <a:ext cx="244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A sík lefedés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0000"/>
                </a:solidFill>
                <a:latin typeface="Times New Roman"/>
              </a:rPr>
              <a:t>egybevágó háromszögekkel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6444360" y="602136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Koordinátarendszer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349800" y="59500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Sugársorok és ciklusok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350160" y="2997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Szabályos sokszög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540720" y="5950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0000"/>
                </a:solidFill>
                <a:latin typeface="Times New Roman"/>
              </a:rPr>
              <a:t>Az elpattanás szöge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graphicFrame>
        <p:nvGraphicFramePr>
          <p:cNvPr id="133" name="Object 21"/>
          <p:cNvGraphicFramePr/>
          <p:nvPr/>
        </p:nvGraphicFramePr>
        <p:xfrm>
          <a:off x="684360" y="692280"/>
          <a:ext cx="2097000" cy="21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692280"/>
                    <a:ext cx="2097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23" descr=""/>
          <p:cNvPicPr/>
          <p:nvPr/>
        </p:nvPicPr>
        <p:blipFill>
          <a:blip r:embed="rId9"/>
          <a:stretch/>
        </p:blipFill>
        <p:spPr>
          <a:xfrm>
            <a:off x="3564000" y="3645000"/>
            <a:ext cx="218268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Object 28"/>
          <p:cNvGraphicFramePr/>
          <p:nvPr/>
        </p:nvGraphicFramePr>
        <p:xfrm>
          <a:off x="3341520" y="765000"/>
          <a:ext cx="2076480" cy="215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41520" y="765000"/>
                    <a:ext cx="207648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9"/>
          <p:cNvGraphicFramePr/>
          <p:nvPr/>
        </p:nvGraphicFramePr>
        <p:xfrm>
          <a:off x="6372360" y="836640"/>
          <a:ext cx="2057400" cy="208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72360" y="836640"/>
                    <a:ext cx="20574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0"/>
          <p:cNvSpPr/>
          <p:nvPr/>
        </p:nvSpPr>
        <p:spPr>
          <a:xfrm>
            <a:off x="611280" y="407664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Bolyai János képlete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8820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87487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graphicFrame>
        <p:nvGraphicFramePr>
          <p:cNvPr id="143" name="Object 36"/>
          <p:cNvGraphicFramePr/>
          <p:nvPr/>
        </p:nvGraphicFramePr>
        <p:xfrm>
          <a:off x="539640" y="3645000"/>
          <a:ext cx="2376720" cy="22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4" name="Object 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3645000"/>
                    <a:ext cx="237672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108000" y="476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0000"/>
                </a:solidFill>
                <a:latin typeface="Times New Roman"/>
              </a:rPr>
              <a:t>A  </a:t>
            </a:r>
            <a:r>
              <a:rPr b="0" lang="hu-HU" sz="3200" spc="-1" strike="noStrike">
                <a:solidFill>
                  <a:srgbClr val="ff3300"/>
                </a:solidFill>
                <a:latin typeface="Times New Roman"/>
              </a:rPr>
              <a:t>teljesség</a:t>
            </a:r>
            <a:r>
              <a:rPr b="0" lang="hu-HU" sz="3200" spc="-1" strike="noStrike">
                <a:solidFill>
                  <a:srgbClr val="990000"/>
                </a:solidFill>
                <a:latin typeface="Times New Roman"/>
              </a:rPr>
              <a:t> és </a:t>
            </a:r>
            <a:r>
              <a:rPr b="0" lang="hu-HU" sz="3200" spc="-1" strike="noStrike">
                <a:solidFill>
                  <a:srgbClr val="ff3300"/>
                </a:solidFill>
                <a:latin typeface="Times New Roman"/>
              </a:rPr>
              <a:t>ellentmondás-mentesség</a:t>
            </a:r>
            <a:r>
              <a:rPr b="0" lang="hu-HU" sz="3200" spc="-1" strike="noStrike">
                <a:solidFill>
                  <a:srgbClr val="990000"/>
                </a:solidFill>
                <a:latin typeface="Times New Roman"/>
              </a:rPr>
              <a:t> kérdés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148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Gödel tételei: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24000" y="206064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Bármely konzisztens axiómarendszer, amely a matematika elég nagy területét megragadja, nem teljes:  vannak benne olyan kérdések, amelyek az axiómarendszer  eszközeivel nem válaszolhatók meg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68360" y="4149720"/>
            <a:ext cx="80773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Egy axiómarendszer ellentmondás-mentessége belső (vagyis a rendszer axiómáira épülő) eszközökkel nem igazolható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82880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imes New Roman"/>
              </a:rPr>
              <a:t>A relatív ellentmondás-mentesség: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9640" y="3716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Ha a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hiperbolikus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ellentmondásmentes, akkor az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uklideszi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is az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12682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Ha az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algebr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ellentmondásmentes, akkor az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uklideszi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is az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11280" y="2492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Ha az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euklideszi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ellentmondásmentes, akkor a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hiperbolikus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is az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5157720"/>
            <a:ext cx="84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Melyik geometria irja le jobban a bennünket körülvevő világot?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788000" y="907920"/>
            <a:ext cx="395928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Isten elménket bezárta a térb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Szegény elménk e térben rab maradt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A kapzsi villámölyv, a gondolat,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Gyémántkorlátját még csak el sem ért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Én, boldogolván azt a madara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ki kalitjából legalább k i l á t o t t,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a semmiből alkottam új világot,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mint pókhálóból sző kötélt a rab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Új törvényekkel, túl a szűk egen,</a:t>
            </a:r>
            <a:br>
              <a:rPr sz="1800"/>
            </a:b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új végtelent nyitottam én eszemnek:</a:t>
            </a:r>
            <a:br>
              <a:rPr sz="1800"/>
            </a:b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király gyanánt, túl minden képzeten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kirabolván kincsét a képtelennek</a:t>
            </a:r>
            <a:br>
              <a:rPr sz="1800"/>
            </a:b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nevetlek, mint Istennel osztozó,</a:t>
            </a:r>
            <a:br>
              <a:rPr sz="1800"/>
            </a:br>
            <a:r>
              <a:rPr b="1" i="1" lang="hu-HU" sz="1800" spc="-1" strike="noStrike">
                <a:solidFill>
                  <a:srgbClr val="990000"/>
                </a:solidFill>
                <a:latin typeface="Times New Roman"/>
              </a:rPr>
              <a:t>vén Euklides, rab törvényhozó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211640" y="26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990000"/>
                </a:solidFill>
                <a:latin typeface="Times New Roman"/>
              </a:rPr>
              <a:t>Babits Mihály: Bolyai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50920" y="59500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0000"/>
                </a:solidFill>
                <a:latin typeface="Arial"/>
              </a:rPr>
              <a:t>Köszönöm a figyelmüket.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57" name="Picture 6" descr="ideal-polyhedra-in-hyperbolic-space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{6,3,5}_honeycomb_roice_bright"/>
          <p:cNvPicPr/>
          <p:nvPr/>
        </p:nvPicPr>
        <p:blipFill>
          <a:blip r:embed="rId1"/>
          <a:stretch/>
        </p:blipFill>
        <p:spPr>
          <a:xfrm>
            <a:off x="1042920" y="1413000"/>
            <a:ext cx="6551640" cy="544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79280" y="11592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990033"/>
                </a:solidFill>
                <a:latin typeface="Arial"/>
              </a:rPr>
              <a:t>Szilassi Lajos </a:t>
            </a:r>
            <a:br>
              <a:rPr sz="1600"/>
            </a:br>
            <a:r>
              <a:rPr b="0" lang="hu-HU" sz="1600" spc="-1" strike="noStrike">
                <a:solidFill>
                  <a:srgbClr val="990033"/>
                </a:solidFill>
                <a:latin typeface="Arial"/>
              </a:rPr>
              <a:t>Szegedi Tudományegyetem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563840" y="5661000"/>
            <a:ext cx="5256000" cy="1435320"/>
          </a:xfrm>
          <a:prstGeom prst="rect">
            <a:avLst/>
          </a:prstGeom>
          <a:gradFill rotWithShape="0">
            <a:gsLst>
              <a:gs pos="0">
                <a:srgbClr val="9090f1"/>
              </a:gs>
              <a:gs pos="100000">
                <a:srgbClr val="dfdf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Hajnal Imre </a:t>
            </a:r>
            <a:br>
              <a:rPr sz="24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 Matematika Tesztverseny és Módszertani Nap</a:t>
            </a:r>
            <a:br>
              <a:rPr sz="2000"/>
            </a:b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 Gyula,</a:t>
            </a: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 2017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4558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045440" y="83664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imes New Roman"/>
              </a:rPr>
              <a:t>Euklídész, …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869080" y="83664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0000"/>
                </a:solidFill>
                <a:latin typeface="Times New Roman"/>
              </a:rPr>
              <a:t>… </a:t>
            </a:r>
            <a:r>
              <a:rPr b="1" lang="hu-HU" sz="2800" spc="-1" strike="noStrike">
                <a:solidFill>
                  <a:srgbClr val="990000"/>
                </a:solidFill>
                <a:latin typeface="Times New Roman"/>
              </a:rPr>
              <a:t>Bolyai, …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688040" y="486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és a geometriai szemléletünk</a:t>
            </a:r>
            <a:r>
              <a:rPr b="0" lang="hu-H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5" name="Picture 17" descr="200px-Bolyai_János_(Márkos_Ferenc_festménye)"/>
          <p:cNvPicPr/>
          <p:nvPr/>
        </p:nvPicPr>
        <p:blipFill>
          <a:blip r:embed="rId2"/>
          <a:stretch/>
        </p:blipFill>
        <p:spPr>
          <a:xfrm>
            <a:off x="5508720" y="1413000"/>
            <a:ext cx="2044440" cy="32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250px-Euklid-von-Alexandria_1"/>
          <p:cNvPicPr/>
          <p:nvPr/>
        </p:nvPicPr>
        <p:blipFill>
          <a:blip r:embed="rId3"/>
          <a:stretch/>
        </p:blipFill>
        <p:spPr>
          <a:xfrm>
            <a:off x="1042920" y="1413000"/>
            <a:ext cx="2233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3860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00"/>
                </a:solidFill>
                <a:latin typeface="Times New Roman"/>
              </a:rPr>
              <a:t>Bolyai János</a:t>
            </a:r>
            <a:r>
              <a:rPr b="0" lang="hu-H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990000"/>
                </a:solidFill>
                <a:latin typeface="Times New Roman"/>
              </a:rPr>
              <a:t>1802. december 15. – 1860. január 27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8" name="Picture 9" descr="image006"/>
          <p:cNvPicPr/>
          <p:nvPr/>
        </p:nvPicPr>
        <p:blipFill>
          <a:blip r:embed="rId1"/>
          <a:stretch/>
        </p:blipFill>
        <p:spPr>
          <a:xfrm>
            <a:off x="5867280" y="115920"/>
            <a:ext cx="2320920" cy="644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2851200" cy="352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900000" y="4941720"/>
            <a:ext cx="4537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90000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990000"/>
                </a:solidFill>
                <a:latin typeface="Times New Roman"/>
              </a:rPr>
              <a:t>Kár, hogy nagy talentuma</a:t>
            </a:r>
            <a:br>
              <a:rPr sz="2800"/>
            </a:br>
            <a:r>
              <a:rPr b="0" i="1" lang="hu-HU" sz="2800" spc="-1" strike="noStrike">
                <a:solidFill>
                  <a:srgbClr val="990000"/>
                </a:solidFill>
                <a:latin typeface="Times New Roman"/>
              </a:rPr>
              <a:t>kihasználatlanul ásatott el.”</a:t>
            </a:r>
            <a:r>
              <a:rPr b="0" lang="hu-H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Péterfi Károly      </a:t>
            </a:r>
            <a:br>
              <a:rPr sz="1800"/>
            </a:br>
            <a:r>
              <a:rPr b="0" lang="hu-HU" sz="1800" spc="-1" strike="noStrike">
                <a:solidFill>
                  <a:srgbClr val="990000"/>
                </a:solidFill>
                <a:latin typeface="Times New Roman"/>
              </a:rPr>
              <a:t> református esperes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0000"/>
                </a:solidFill>
                <a:latin typeface="Times New Roman"/>
              </a:rPr>
              <a:t>Euklídész axióma-rendsze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Pont az, aminek nincs része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A vonal szélesség nélküli hosszúság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A vonal végei ponto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Egyenes vonal az, amelyik a rajta lévő pontokhoz viszonyítva egyenlően fekszi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Párhuzamosak azok az egyenesek, melyek egy síkban vannak,  és mindkétoldalt végtelenül meghosszabbítva egyiken sem találkozna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19320" y="1523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ogalmak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(meghatározások)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21333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Amik ugyanazzal egyenlők, egymással is egyenlő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Ha egyenlőkhöz egyenlőket adunk, az összegük is egyenlő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Az egymásra illeszkedők egyenlők egymással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14400" y="45720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Axiómák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- olyan relációk, melyeket </a:t>
            </a:r>
            <a:r>
              <a:rPr b="1" lang="hu-HU" sz="2400" spc="-1" strike="noStrike" u="sng">
                <a:solidFill>
                  <a:srgbClr val="990000"/>
                </a:solidFill>
                <a:uFillTx/>
                <a:latin typeface="Times New Roman"/>
              </a:rPr>
              <a:t>gondolkodásunk természete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szab meg: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 u="sng">
                <a:solidFill>
                  <a:srgbClr val="990000"/>
                </a:solidFill>
                <a:uFillTx/>
                <a:latin typeface="Arial"/>
              </a:rPr>
              <a:t>Követeltessék meg,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 hog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bármely pontból bármely pontba legyen egyenes húzható;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véges egyenes vonal folytatólag meghosszabbítható legyen;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bármely középponttal és távolsággal (sugárral) legyen kör rajzolható;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minden derékszög egymással egyenlő legyen;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cc0000"/>
                </a:solidFill>
                <a:latin typeface="Arial"/>
              </a:rPr>
              <a:t>ha két egyenes úgy metsz egy egyenest, hogy az egyik oldalon keletkező  belső szögek összege kisebb két derékszög összegénél, akkor  a két egyenest végtelenül meghosszabbítva találkozzék azon az oldalon, ahol a szögek összege két derékszögnél kisebb. 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66680" y="53352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Posztulátumok -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olyan kijelentések, melyeket </a:t>
            </a:r>
            <a:r>
              <a:rPr b="1" lang="hu-HU" sz="2400" spc="-1" strike="noStrike" u="sng">
                <a:solidFill>
                  <a:srgbClr val="990000"/>
                </a:solidFill>
                <a:uFillTx/>
                <a:latin typeface="Times New Roman"/>
              </a:rPr>
              <a:t>geometriai látásmódunk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természete igényel: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459640" y="616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1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Proklosz 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( V. szd.):   Adott egyeneshez és rá nem illeszkedő ponthoz  csak egy nem metsző egyenes húzható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Clavio 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(1574):  Adott egyenessel határolt félsíkon az egyenestől egyenlő távolságra lévő pontok egyenest alkotna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Wallis 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(1663):   Van két, páronként  egyenlő szögekkel rendelkező, de nem egybevágó háromszög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Gauss 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(1799):   Bármely háromszögnél van nagyobb területű háromszög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Legendre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 (1800):  Van olyan háromszög, amelynek a szögösszege két derékszög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3300"/>
                </a:solidFill>
                <a:latin typeface="Arial"/>
              </a:rPr>
              <a:t>Bolyai Farkas </a:t>
            </a:r>
            <a:r>
              <a:rPr b="1" i="1" lang="hu-HU" sz="2000" spc="-1" strike="noStrike">
                <a:solidFill>
                  <a:srgbClr val="990000"/>
                </a:solidFill>
                <a:latin typeface="Arial"/>
              </a:rPr>
              <a:t>(1851):   Három különböző pontra vagy egy kör, vagy egy egyenes illeszkedik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0000"/>
                </a:solidFill>
                <a:latin typeface="Times New Roman"/>
              </a:rPr>
              <a:t>Az 5. posztulátum néhány átfogalmazása: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459640" y="119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1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459640" y="20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845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3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45964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4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45964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5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8459640" y="54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800" spc="-1" strike="noStrike" u="sng">
                <a:solidFill>
                  <a:srgbClr val="cc0000"/>
                </a:solidFill>
                <a:uFillTx/>
                <a:latin typeface="Times New Roman"/>
                <a:hlinkClick r:id="rId6"/>
              </a:rPr>
              <a:t>↓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71600" y="1219320"/>
            <a:ext cx="7315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Bolyai Farkas: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fiához, 1820.   április 4.)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„</a:t>
            </a:r>
            <a:r>
              <a:rPr b="0" i="1" lang="hu-HU" sz="2400" spc="-1" strike="noStrike">
                <a:solidFill>
                  <a:srgbClr val="990000"/>
                </a:solidFill>
                <a:latin typeface="Times New Roman"/>
              </a:rPr>
              <a:t>A paralellákat azon az úton ne  próbáld: tudom én azt az utat is mind végig - megmértem azt a feneketlen éjszakát én, és az életemnek minden világossága, minden öröme kialudt benne - Az Istenért kérlek! </a:t>
            </a: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Hagyj békét a paralelláknak</a:t>
            </a:r>
            <a:r>
              <a:rPr b="1" i="1" lang="hu-HU" sz="2400" spc="-1" strike="noStrike">
                <a:solidFill>
                  <a:srgbClr val="99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42920" y="4005360"/>
            <a:ext cx="76438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Bolyai János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apjához, 1823. november 3.)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400" spc="-1" strike="noStrike">
                <a:solidFill>
                  <a:srgbClr val="990000"/>
                </a:solidFill>
                <a:latin typeface="Times New Roman"/>
              </a:rPr>
              <a:t> A feltételem már áll,  hogy mihelyt rendbe szedem, s mód lesz rá, a paralellákról egy munkát adok ki;  …  most többet nem szólhatok, csak annyit: </a:t>
            </a: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a semmiből egy új, más világot teremtettem</a:t>
            </a:r>
            <a:r>
              <a:rPr b="0" i="1" lang="hu-HU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i="1" lang="hu-HU" sz="2400" spc="-1" strike="noStrike">
                <a:solidFill>
                  <a:srgbClr val="990000"/>
                </a:solidFill>
                <a:latin typeface="Times New Roman"/>
              </a:rPr>
              <a:t> … „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0968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Levélrészletek: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990720" y="304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990000"/>
                </a:solidFill>
                <a:latin typeface="Times New Roman"/>
              </a:rPr>
              <a:t>A geometria modern axiómarendszere</a:t>
            </a:r>
            <a:r>
              <a:rPr b="0" lang="hu-H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324480" y="2209680"/>
            <a:ext cx="2514600" cy="225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Módosított  axióma csoporto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3300"/>
                </a:solidFill>
                <a:latin typeface="Times New Roman"/>
              </a:rPr>
              <a:t>P*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990000"/>
                </a:solidFill>
                <a:latin typeface="Times New Roman"/>
              </a:rPr>
              <a:t>Az elliptikus geometri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4724280"/>
            <a:ext cx="2438280" cy="1692000"/>
          </a:xfrm>
          <a:prstGeom prst="rect">
            <a:avLst/>
          </a:prstGeom>
          <a:solidFill>
            <a:srgbClr val="b3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z euklideszi geometri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05320" y="4876920"/>
            <a:ext cx="2590560" cy="143604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  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 hiperbolikus geometri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143000" y="1447920"/>
            <a:ext cx="388620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z </a:t>
            </a: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abszolút geometria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axióma  csoportjai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43000" y="2438280"/>
            <a:ext cx="4038480" cy="2164320"/>
          </a:xfrm>
          <a:prstGeom prst="rect">
            <a:avLst/>
          </a:prstGeom>
          <a:solidFill>
            <a:srgbClr val="65f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lleszkedési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 axiómá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Rendezési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xiómá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Egybevágósági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xiómá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Folytonossági </a:t>
            </a:r>
            <a:r>
              <a:rPr b="1" lang="hu-HU" sz="2400" spc="-1" strike="noStrike">
                <a:solidFill>
                  <a:srgbClr val="990000"/>
                </a:solidFill>
                <a:latin typeface="Times New Roman"/>
              </a:rPr>
              <a:t>axiómá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8:32:41Z</dcterms:created>
  <dc:creator>Dr. Szilassi Lajos</dc:creator>
  <dc:description/>
  <dc:language>en-US</dc:language>
  <cp:lastModifiedBy>Palinkas Istvan</cp:lastModifiedBy>
  <dcterms:modified xsi:type="dcterms:W3CDTF">2017-05-06T09:49:12Z</dcterms:modified>
  <cp:revision>100</cp:revision>
  <dc:subject/>
  <dc:title>A Bolyai geometria  az oktatásban</dc:title>
</cp:coreProperties>
</file>