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43D-B367-4DF7-8B8F-89B3E50E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9B2-D406-443B-A2F1-4F62F57E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A15-C5DA-4739-8EEB-FF820576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5A9-2868-4D86-B26C-3BA6503E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0801-BBE7-4908-8C27-EA2E8B01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56B-99B3-4259-8583-59AEDC70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9FA9-F9EE-4791-BEDA-C37EE14B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A71-81CC-4A88-B61A-9D2E60C7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B31-BB0F-49F0-95EF-F0DF168D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474-3ADC-4A89-9C7C-B4669707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BB8-D94E-4CF2-9A50-7C97B5AE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439-6D0B-4EF1-A986-9A96594E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AA85-20E2-4BD0-9CB7-14F95F3F6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2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725920" cy="3129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5626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6:36:05Z</dcterms:created>
  <dc:creator>Dr. Szilassi Lajos</dc:creator>
  <dc:description/>
  <dc:language>en-US</dc:language>
  <cp:lastModifiedBy>Dr. Szilassi Lajos</cp:lastModifiedBy>
  <dcterms:modified xsi:type="dcterms:W3CDTF">2009-11-29T15:58:51Z</dcterms:modified>
  <cp:revision>4</cp:revision>
  <dc:subject/>
  <dc:title>1. dia</dc:title>
</cp:coreProperties>
</file>